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5823F-1065-4B86-8C81-6B587F1EC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E6C2B-6C99-4423-95A9-22CD20801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609BF8-BE18-4148-B765-61B796F86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A3C5EF-938C-47C4-996E-CC9A30370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C01F2A-1258-4CF1-9575-61C382598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404D75-4094-4E82-9721-303304EB1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0E9C36-9F59-4D5A-8DEA-652A9BD03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38A681-0AA7-439D-BB68-5B7F6BB78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F4C421-97E8-4EC7-9060-55A0995A9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FD1C92-4806-4E92-B932-7E2562372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18B7AD-1284-4BC1-9F79-25E4A72BA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2E80D-59AD-4CB2-B4BE-A37A30FDA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39247-ED31-4993-8BBC-167334A68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B043E-51CC-40D5-A6BC-31B901E62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407B2-AD4B-438F-828E-9654E3453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2C26E-CCBF-4D54-AA68-516538CA3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ABA06-F631-45BA-8A6F-20FB45391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9F4CC-1E91-4902-BB4E-4AFCC304E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B2E5C-B7ED-4BB4-B823-338215A4E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62A2E-3F25-47E6-AA14-10EEA2299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740B9-2395-41D8-B541-FABB6159D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A9B3C-5648-46B7-A998-E59BE89BE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689DD-2A6A-49BA-A046-607BF00D6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6E4D1-1E06-4EAC-8312-C57F74DC5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B7F30-1C50-4A1A-9BD5-1CFD48361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3AC37-A741-4BC3-8A23-D6B929088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A2A5A2-A3A9-470A-9F5E-DF08B6EDF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A644B7-2529-42B2-B1C3-CC8C20787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F11851-4672-4B46-8275-E3DFD43A0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0575A4-281D-4D41-AC45-DE6E084A9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9383B9-D33C-4C0A-93BE-443BA34E0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46EE9-BAC1-483E-8492-27B975BFF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20BDE1-F1BA-4588-BDAD-14D365469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08B527-7F48-4FB9-BC0E-711F9C341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77986F-BDF1-4675-B007-A73C6D6ED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08D117-B7ED-4CF7-9EDF-C03E302ED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3CD82A-1E46-446D-8093-A148FC9C7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0318E8-6EAA-4365-98FD-B1EC582E6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378381-BAC9-43F2-9D3E-DBA14654B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D161CC-9B8E-4E2E-9BE6-B7DEFAF05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3313DB-44AB-4B7D-B041-AD20C583D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778677-B4E1-4327-BFF9-062C631F8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4EA6C-9D24-4E46-92D9-49AE3A57A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7032E1-6236-45AF-B513-B9873B554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A5AA4C-7BD3-4ED6-A816-899D57B67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DB5BD3-CFBB-4D3D-8209-EE1546C5F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8AF26F-71BA-4887-8052-56C4BEF81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2C0116-E288-4FA3-A729-01D87D63C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805035-F6FB-450D-8B8F-0564AA136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6E4615-0659-4E29-9A27-F8A852E09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15915A-3495-4972-A111-DA5B179BF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17B948-D383-4716-B199-FB3C9AD87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58B46C-B3BB-4CF3-9770-547767A32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D892D-90F3-406C-9E2A-37AE85353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FFE9F9-2DDB-40EA-9CE5-55C9C9F4D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B70471-B211-4CDA-AFD7-E84A99E07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3D8315-0863-48AC-97A3-3F6813447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5A3218-C45B-4882-8DC0-074F4BED0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B86440-A6DA-4EFC-9848-0CE699CAF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90FE45-AA44-4BF4-A069-CA9FD69C3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E6E98F-0C70-416E-8CB5-D97BC730F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995B10-BE49-461F-B728-08760253E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2A1D0F-EEEF-4B0C-AF3E-46E4A72A8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AE2458-4D46-4ECA-A9BF-B29430FDE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FCE96-44BA-44A6-85B0-818B244E1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AFB289-3D32-4774-AEE9-44ADD0073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3D3B31-28CC-4D4D-ADB4-8B14897F6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F68810-4E4F-487C-92B0-1B7328DC6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5F312E-3C44-4C18-AE0E-83E2675B2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5E7227-EE03-4EB0-895B-066E8A756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01FC70-00F0-4957-A880-D0A974C7D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17E70A-491B-434C-926B-91618E1B4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647AF4-D3CB-45C2-B2D9-7E270730C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29464B-BB50-44C8-8D8F-ECB2E74C7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83A873-6239-4158-93C9-744C2F19D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C9C65-2787-4982-86BE-DDD01B038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910338-64F7-4612-A888-AEDC021F4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97F3D0-B8BA-4D04-B2DE-734CD67DF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AC2463-D149-4B96-8379-5C7D0AF02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09C2AF-9E4D-4E88-A9C4-99C336768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78C81E-0554-4366-843C-E37BD5010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658309-75DB-4764-83A3-60AF24053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E4B2BD-0F25-442B-B039-15CCBA62B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D11A6F-5EB9-4A57-9118-D57A06623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BA2A85-2588-419B-BBA4-6F5C97E8F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1109ED-5D3A-4FE3-BBBB-5317E3920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DADD7-7C7E-4F50-BF50-1C570ED1C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D273C5-E48D-47B9-B103-B987562A1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C8D231-89F3-4D5B-8C19-A76EFEB12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6DADAE-0FCF-444A-A34A-EDB8DFD03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B4348F-F480-4100-BCF0-A251D4006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B41F82-E1BA-4FF2-AF31-9161DD2D8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5A95A2-D667-45C4-A2EC-6886381A8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0CF0CF-4B49-443E-9B09-7D7974461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634FF3-96A3-4346-8E11-EA9D6B7BE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3036C0-5DD3-4DAF-84B4-120D7CE3F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409120-B3A2-4659-8DBC-FC453A269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3A165-EF62-4670-AA57-026D125EE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FCC661-814F-4B21-B7C6-BBA72B69F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EBEE6B-F62B-4F21-B0AC-BB6F86B96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19C1B7-AE7C-4324-896B-CD3F30E13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CFD972-253C-4735-9CF8-627C6EE29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493028-7EEF-4328-9D8A-BA60CFE22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73B4BA-C2EC-4E35-9DD6-885E1D563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73D97F-100C-41C7-95F5-C5E0A7708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C23861-82ED-469E-B089-7C1D04AC4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FA39ED-0E60-4E0F-9B66-DC96BCC92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E4EC09-548B-48F0-8265-3DA3D9E10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A552B-A25A-46B3-ACF9-9FAE52688ACC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1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Straight Connector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06941-1302-4E9C-ACE0-05E03A86D9A5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97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00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4C03A-D2A6-499F-B4B8-73132E0BDC0D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Straight Connector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D62A6-7C94-450B-B303-B361C949BDCA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Straight Connector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992FB-9957-40EA-A2FE-872C7210FE5B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4E5EB-E095-42B1-9566-8E7581399BC7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Straight Connector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09BDB-B3B1-4F1B-9C0C-D253B8F35C35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C0169-C227-479D-A15E-24F45A46F05A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67B87-A3CC-44CC-9FE7-4EE6719EE91D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Title 3" descr=""/>
          <p:cNvPicPr/>
          <p:nvPr/>
        </p:nvPicPr>
        <p:blipFill>
          <a:blip r:embed="rId1"/>
          <a:stretch/>
        </p:blipFill>
        <p:spPr>
          <a:xfrm>
            <a:off x="298440" y="378000"/>
            <a:ext cx="8699400" cy="207936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 txBox="1"/>
          <p:nvPr/>
        </p:nvSpPr>
        <p:spPr>
          <a:xfrm>
            <a:off x="304920" y="1904760"/>
            <a:ext cx="8686800" cy="41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4e3b30"/>
                </a:solidFill>
                <a:latin typeface="Franklin Gothic Book"/>
              </a:rPr>
              <a:t>Courageous Conversations</a:t>
            </a:r>
            <a:endParaRPr b="0" lang="en-US" sz="5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4e3b30"/>
                </a:solidFill>
                <a:latin typeface="Franklin Gothic Book"/>
              </a:rPr>
              <a:t>October 14, 2011</a:t>
            </a:r>
            <a:endParaRPr b="0" lang="en-US" sz="33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4e3b30"/>
                </a:solidFill>
                <a:latin typeface="Franklin Gothic Book"/>
              </a:rPr>
              <a:t>10:30-11:30 AM</a:t>
            </a:r>
            <a:endParaRPr b="0" lang="en-US" sz="33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4e3b30"/>
                </a:solidFill>
                <a:latin typeface="Franklin Gothic Book"/>
              </a:rPr>
              <a:t>Halee Vang, </a:t>
            </a:r>
            <a:endParaRPr b="0" lang="en-US" sz="33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4e3b30"/>
                </a:solidFill>
                <a:latin typeface="Franklin Gothic Book"/>
              </a:rPr>
              <a:t>Leticia Guadarrama, </a:t>
            </a:r>
            <a:endParaRPr b="0" lang="en-US" sz="33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4e3b30"/>
                </a:solidFill>
                <a:latin typeface="Franklin Gothic Book"/>
              </a:rPr>
              <a:t>John Wolfe</a:t>
            </a:r>
            <a:endParaRPr b="0" lang="en-US" sz="33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304920" y="1752120"/>
            <a:ext cx="86868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304920" y="1752120"/>
            <a:ext cx="86868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304920" y="1752120"/>
            <a:ext cx="86868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304920" y="1752120"/>
            <a:ext cx="86868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304920" y="1752120"/>
            <a:ext cx="86868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304920" y="1752120"/>
            <a:ext cx="86868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304920" y="1752120"/>
            <a:ext cx="86868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304920" y="1752120"/>
            <a:ext cx="86868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304920" y="1752120"/>
            <a:ext cx="86868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304920" y="1752120"/>
            <a:ext cx="86868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304920" y="1752120"/>
            <a:ext cx="86868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304920" y="1752120"/>
            <a:ext cx="86868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304920" y="1752120"/>
            <a:ext cx="86868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3T20:57:21Z</dcterms:created>
  <dc:creator>Administrator</dc:creator>
  <dc:description/>
  <dc:language>en-US</dc:language>
  <cp:lastModifiedBy>Administrator</cp:lastModifiedBy>
  <dcterms:modified xsi:type="dcterms:W3CDTF">2011-10-13T21:21:07Z</dcterms:modified>
  <cp:revision>3</cp:revision>
  <dc:subject/>
  <dc:title>Courageous Conversations</dc:title>
</cp:coreProperties>
</file>